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826B7D2-9051-4326-B380-F8ACEC0349F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79127A0-F5E5-4692-98A4-1811ABD036B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93720" y="739800"/>
            <a:ext cx="5346720" cy="3701880"/>
          </a:xfrm>
          <a:prstGeom prst="rect">
            <a:avLst/>
          </a:prstGeom>
          <a:ln w="0">
            <a:noFill/>
          </a:ln>
        </p:spPr>
      </p:sp>
      <p:sp>
        <p:nvSpPr>
          <p:cNvPr id="31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93720" y="739800"/>
            <a:ext cx="5346720" cy="3701880"/>
          </a:xfrm>
          <a:prstGeom prst="rect">
            <a:avLst/>
          </a:prstGeom>
          <a:ln w="0">
            <a:noFill/>
          </a:ln>
        </p:spPr>
      </p:sp>
      <p:sp>
        <p:nvSpPr>
          <p:cNvPr id="32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2803470-ED15-4CB6-AEC2-C2EB62B276F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695160" y="739800"/>
            <a:ext cx="5345280" cy="3701880"/>
          </a:xfrm>
          <a:prstGeom prst="rect">
            <a:avLst/>
          </a:prstGeom>
          <a:ln w="0">
            <a:noFill/>
          </a:ln>
        </p:spPr>
      </p:sp>
      <p:sp>
        <p:nvSpPr>
          <p:cNvPr id="32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A09AB5-CED7-4FBA-A319-952129E68A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E7B4BE-DFC0-4511-A5E7-F2CBB69DFE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F68F8A-9468-4341-92F7-EEC0587C6F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E42803-206F-48F5-A9CD-1FF352F066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7F8D5-6C4C-4119-BC9E-505D24F44C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22341-1A6A-4CEB-A52F-40DEDDB24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46EEF-35F4-403D-BA74-FA9DFECD3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47FC2-BD18-4B45-A7CD-3E526FA5E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9EB03-5D76-460C-85C0-1842BCE1E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C71CA-2F68-40C9-AA00-A4E276CF6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DEFFA-3925-4A15-8FA7-FD7172080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3991DC-92C1-4D3C-938A-465B02ED6D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F505E-A80C-4E2C-88A2-B1BE184BE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F14D9-163E-41D7-9D08-A9843C0F0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86B8A-D65F-47FA-8776-0E16CB4E6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0DFEB-10AB-48B0-9E47-F0C62736D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E203B3-A8E3-4DE0-99BE-0AAB9BD71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038326-F371-4F78-8624-46FA3896A6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E6BBBB-6A8E-460C-8E9C-FA7760879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B1DAAA-AB49-41F6-9490-0A8B98C23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07F418-F3D8-4486-A3D1-0C6560D2F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E051AE-D78D-48A4-8016-E6CE0DE83B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3EC697-4E83-4C35-A43F-B4C38953BA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96DD62-A41E-4281-9400-A1174D0C585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5CC2-99DC-4200-B5EF-BEF8037134A8}"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28F5-211B-421D-84ED-023F3919814C}"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F0CF7B2-6232-4EAB-B21E-C789706138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374A0CF5-41BA-41D3-A547-E11B1FCCC5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30D5DA15-5E75-4921-A3A5-31FC8B27E3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E9BD182C-459E-4522-A95C-F332638AE3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C125844-E70D-4204-88F3-4BA83E8195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6A330715-11A7-48AB-9FD0-CEDC23CF02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683A1CB3-B7E6-41F6-8C02-581DB16F80A6}"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EE2C483-90F9-49BD-A66F-D3CEC7A0CD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EFE200D-95A2-4C36-8794-FC2EBDA982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53E16EE-720C-43A9-9B07-77817FD6D2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B43127E0-4336-4ED7-B577-83CE0B6AB8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789280"/>
            <a:ext cx="4724280" cy="3373560"/>
          </a:xfrm>
          <a:prstGeom prst="rect">
            <a:avLst/>
          </a:prstGeom>
          <a:ln w="0">
            <a:noFill/>
          </a:ln>
        </p:spPr>
      </p:pic>
      <p:sp>
        <p:nvSpPr>
          <p:cNvPr id="153"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154"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155"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15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5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162"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5721624-FCA5-4072-8970-2C66656944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165"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166"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16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6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04920" y="2438280"/>
            <a:ext cx="4114800" cy="3826080"/>
          </a:xfrm>
          <a:prstGeom prst="rect">
            <a:avLst/>
          </a:prstGeom>
          <a:ln w="0">
            <a:noFill/>
          </a:ln>
        </p:spPr>
      </p:pic>
      <p:sp>
        <p:nvSpPr>
          <p:cNvPr id="173"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174"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175"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167E1813-756C-42CD-B25C-EABB0D9002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741240" y="2133720"/>
            <a:ext cx="8402760" cy="4084200"/>
            <a:chOff x="741240" y="2133720"/>
            <a:chExt cx="8402760" cy="4084200"/>
          </a:xfrm>
        </p:grpSpPr>
        <p:sp>
          <p:nvSpPr>
            <p:cNvPr id="179"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80"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81"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82"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83"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84"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85"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86"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87"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88"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89"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90"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91"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92"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93"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94"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95"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96"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97"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98"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99"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200"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201"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202"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203"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204"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205"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206"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209"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210"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211"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212"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213"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214"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215"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216"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217"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21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A43488B-19D4-4327-B1FD-5691A19B00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838080" y="1905120"/>
            <a:ext cx="7467840" cy="4303440"/>
          </a:xfrm>
          <a:prstGeom prst="rect">
            <a:avLst/>
          </a:prstGeom>
          <a:ln w="0">
            <a:noFill/>
          </a:ln>
        </p:spPr>
      </p:pic>
      <p:sp>
        <p:nvSpPr>
          <p:cNvPr id="224"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225"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27"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28"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29"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30"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32"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3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3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132B3B76-F665-430E-A142-429BE38F52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disasi</cp:lastModifiedBy>
  <cp:lastPrinted>2004-08-09T23:39:53Z</cp:lastPrinted>
  <dcterms:modified xsi:type="dcterms:W3CDTF">2004-10-11T18:25:43Z</dcterms:modified>
  <cp:revision>26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1724858</vt:r8>
  </property>
  <property fmtid="{D5CDD505-2E9C-101B-9397-08002B2CF9AE}" pid="3" name="_AuthorEmailDisplayName">
    <vt:lpwstr>Diego Isasi</vt:lpwstr>
  </property>
  <property fmtid="{D5CDD505-2E9C-101B-9397-08002B2CF9AE}" pid="4" name="_EmailSubject">
    <vt:lpwstr>Presentación para profesores y periodistas 7-10-04.ppt</vt:lpwstr>
  </property>
</Properties>
</file>